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CE47-F3F7-4F3E-B43E-F829E9E7F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BC73-F0FE-4657-A9CE-DC8461466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2083-03A2-4A05-8A8C-61C8F7962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EBCE-F060-4C63-B894-4A679DF83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99B37-25AE-441E-A8DD-E8577C1D5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08661-D15F-4206-803E-D1B6AEB2C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BAE7E-B748-4749-AA63-D59ED79B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97B0B-572B-454E-AF35-7B3F95269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6B8BF-6BCD-4398-9A07-276435B90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22F6C-07AD-4FD3-BDD5-573894248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6A336-E1FF-4782-BEEC-2F746605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F9B4-1FDD-4AA9-9ED0-EAA59A893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C3850-B306-43EC-91B0-58732362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EDCD6-0145-47E8-A4E0-E88EA6E3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0C39B-295F-4834-8B80-8C782F640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853A7-8BF1-4D84-AFC6-BBBB81A49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6B5E2-2665-4E0E-8283-09FA43764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E3AD-F2DE-452F-80A0-4A8754A3B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5CED-22F6-45E7-A120-9E2D7283F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C009-3341-42FE-9AAA-E69B73BB3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2DA9-5E87-42B9-A0FA-4E76CBC56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E17D-EA1E-464B-AA6C-C733073A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841A-26B3-42DD-89C5-E037E8C3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5666-154E-4306-A20B-0252702C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eb 11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123720" y="628668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AST-NU, ISLAMABAD. FALL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AFA32-B2DF-4499-A395-1054C9D020D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F430D-705F-4DF5-A846-B1895A1E61F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ahirh@enabtech.com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484560"/>
            <a:ext cx="7678800" cy="20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Testing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Systems &amp; Applications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657240" y="2860560"/>
            <a:ext cx="48006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ahir Hame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abling Technologies, Islamab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Tahirh@enabtech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685440" y="2209680"/>
            <a:ext cx="8458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ask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 Platform Configuration Concer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st needed platform configur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ess Test Room Configu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st Software Structure Platform Effec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ecute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871200" y="92196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Multi platform environment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E4E0-06E1-4A74-BC3A-FD38DF08F83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ecurit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cer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 Risks will be identifi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dequate controls are installed to minimize these risk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as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dentify Potential Penetr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dentify potential points of penet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a penetration point matri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dentify High risks points of penet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ecute Security Ri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7A89-607E-4E29-8417-487A0FACA2B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Data ware Hous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cer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adequate assignment of responsibili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accurate or incomplete data in DW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sing an update to a single data it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adequate audit trail to reconstruct transa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authorized access to data in a DW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adequate servic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cing data in wrong calendar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ilure of DWH software to function as specifi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roper use of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916D-2B59-4F11-ABAE-CD67742FF31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Data ware Hous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2960" y="1904760"/>
            <a:ext cx="73166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cer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ck of skilled independent DWH review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adequate documen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ss of continuity of process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ck of criteria to evalu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ck of management supp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asure the magnitude of DWH concer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ntify DWH activity processes to te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st the adequacy of DWH activity proces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1369-CA9A-49C6-88FE-13C28148662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71200" y="920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Adequacy of documentation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06400" y="2057400"/>
            <a:ext cx="8337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cer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cumentation process will fail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ing discipline to the IT fun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ist in planning &amp; managing resour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ist auditors in evalu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lp transfer knowledge through out the life cyc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mote common understanding about the syst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de flexibility and job switch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sis of trai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de managers documents to review at significant milest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lp in implementing security procedu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6D3C-AA55-4345-BAA0-E022FA49485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71200" y="920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Adequacy of documentation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2600" y="2666520"/>
            <a:ext cx="7468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as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asure project Documentation nee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termine importance of docu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termine completeness of docu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termine current ness of docu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7FFD-7E8E-4E99-BC4C-5CEF1DD17B8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Automated software testing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ual software testing is time consum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testing has to be repeated after every change (regression testing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</a:t>
            </a:r>
            <a:r>
              <a:rPr b="0" lang="en-US" sz="3200" spc="-1" strike="noStrike">
                <a:solidFill>
                  <a:srgbClr val="ff0033"/>
                </a:solidFill>
                <a:latin typeface="Verdana"/>
              </a:rPr>
              <a:t>test driver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at can run automatically and produce a test repor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5467-8AD9-422E-8DF7-9EE2CD74601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Rout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47920" y="22096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omated Testing for Functiona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omated testing for GUI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g Track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 Quality Repor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14B7-8FCF-4F34-8ED2-BB5E83613FF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Automated Testing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rivers / Scrip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nRunner, Silk Test, &amp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QA Robot, QA Wizard, Rationa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st Track Pro, SQA Manager &amp; IOS/Track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asoft Insure ++ (Memory Leak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DBDC-19BC-4100-95EB-D46F4945A9C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Java test tool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33200" y="2209320"/>
            <a:ext cx="8110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rasoft Jtes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 Mega True Time Java Edi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formance analys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n test Suite by Sun Microsyste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sting GUIS, API tool &amp; Scope covera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lk test by Segue Softwa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pture/playbac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lk scope by Segue Softwa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de coverage for Java applic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lk Spec by Segue Softwar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 and apple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4C55-6DD7-4E9B-9A96-71874896AE6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Road map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8501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sting Client Server syst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sting web-based syst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sting Off-the shelf softw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sting in Multi-Platform Environ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sting Secur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sting a data warehous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sting adequateness of documen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utomating Software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8D50-0584-4769-92C1-6B16FEB14F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Test Track Pro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34EC-2F42-483C-B06E-25DB626E9FB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mainwin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467840" cy="6067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1D34-EC40-4DED-8EA3-5A71EA65634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deflist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7391160" cy="600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3073-EC22-4FB3-BBD6-7BDCB3A6A66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"/>
          <p:cNvGrpSpPr/>
          <p:nvPr/>
        </p:nvGrpSpPr>
        <p:grpSpPr>
          <a:xfrm>
            <a:off x="812880" y="611280"/>
            <a:ext cx="6922800" cy="5646240"/>
            <a:chOff x="812880" y="611280"/>
            <a:chExt cx="6922800" cy="5646240"/>
          </a:xfrm>
        </p:grpSpPr>
        <p:sp>
          <p:nvSpPr>
            <p:cNvPr id="252" name=""/>
            <p:cNvSpPr/>
            <p:nvPr/>
          </p:nvSpPr>
          <p:spPr>
            <a:xfrm>
              <a:off x="812880" y="611280"/>
              <a:ext cx="6922800" cy="5646240"/>
            </a:xfrm>
            <a:prstGeom prst="rect">
              <a:avLst/>
            </a:prstGeom>
            <a:solidFill>
              <a:srgbClr val="1f4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812880" y="611280"/>
              <a:ext cx="6922440" cy="5645880"/>
              <a:chOff x="812880" y="611280"/>
              <a:chExt cx="6922440" cy="5645880"/>
            </a:xfrm>
          </p:grpSpPr>
          <p:sp>
            <p:nvSpPr>
              <p:cNvPr id="254" name=""/>
              <p:cNvSpPr/>
              <p:nvPr/>
            </p:nvSpPr>
            <p:spPr>
              <a:xfrm>
                <a:off x="812880" y="611280"/>
                <a:ext cx="6922440" cy="360"/>
              </a:xfrm>
              <a:prstGeom prst="rect">
                <a:avLst/>
              </a:prstGeom>
              <a:solidFill>
                <a:srgbClr val="1f4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812880" y="611280"/>
                <a:ext cx="6922440" cy="5645880"/>
              </a:xfrm>
              <a:prstGeom prst="rect">
                <a:avLst/>
              </a:prstGeom>
              <a:solidFill>
                <a:srgbClr val="1f4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30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56" name="editdefect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6689520" cy="5435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E949-B713-48E4-98E7-FC8881722B9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1193760" y="596880"/>
            <a:ext cx="6765480" cy="5536800"/>
            <a:chOff x="1193760" y="596880"/>
            <a:chExt cx="6765480" cy="5536800"/>
          </a:xfrm>
        </p:grpSpPr>
        <p:sp>
          <p:nvSpPr>
            <p:cNvPr id="258" name=""/>
            <p:cNvSpPr/>
            <p:nvPr/>
          </p:nvSpPr>
          <p:spPr>
            <a:xfrm>
              <a:off x="1193760" y="596880"/>
              <a:ext cx="6765480" cy="5536800"/>
            </a:xfrm>
            <a:prstGeom prst="rect">
              <a:avLst/>
            </a:prstGeom>
            <a:solidFill>
              <a:srgbClr val="1f4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1193760" y="596880"/>
              <a:ext cx="6765120" cy="5536440"/>
              <a:chOff x="1193760" y="596880"/>
              <a:chExt cx="6765120" cy="5536440"/>
            </a:xfrm>
          </p:grpSpPr>
          <p:sp>
            <p:nvSpPr>
              <p:cNvPr id="260" name=""/>
              <p:cNvSpPr/>
              <p:nvPr/>
            </p:nvSpPr>
            <p:spPr>
              <a:xfrm>
                <a:off x="1193760" y="596880"/>
                <a:ext cx="6765120" cy="360"/>
              </a:xfrm>
              <a:prstGeom prst="rect">
                <a:avLst/>
              </a:prstGeom>
              <a:solidFill>
                <a:srgbClr val="1f4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193760" y="596880"/>
                <a:ext cx="6765120" cy="5536440"/>
              </a:xfrm>
              <a:prstGeom prst="rect">
                <a:avLst/>
              </a:prstGeom>
              <a:solidFill>
                <a:srgbClr val="1f4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30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62" name="defectworkflow" descr=""/>
          <p:cNvPicPr/>
          <p:nvPr/>
        </p:nvPicPr>
        <p:blipFill>
          <a:blip r:embed="rId1"/>
          <a:stretch/>
        </p:blipFill>
        <p:spPr>
          <a:xfrm>
            <a:off x="1371600" y="609480"/>
            <a:ext cx="6537240" cy="5311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0A17-A34C-4666-82CA-7AC675EBF6E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"/>
          <p:cNvGrpSpPr/>
          <p:nvPr/>
        </p:nvGrpSpPr>
        <p:grpSpPr>
          <a:xfrm>
            <a:off x="965160" y="457200"/>
            <a:ext cx="7264080" cy="5662080"/>
            <a:chOff x="965160" y="457200"/>
            <a:chExt cx="7264080" cy="5662080"/>
          </a:xfrm>
        </p:grpSpPr>
        <p:sp>
          <p:nvSpPr>
            <p:cNvPr id="264" name=""/>
            <p:cNvSpPr/>
            <p:nvPr/>
          </p:nvSpPr>
          <p:spPr>
            <a:xfrm>
              <a:off x="965160" y="457200"/>
              <a:ext cx="7264080" cy="5662080"/>
            </a:xfrm>
            <a:prstGeom prst="rect">
              <a:avLst/>
            </a:prstGeom>
            <a:solidFill>
              <a:srgbClr val="1f4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965160" y="457200"/>
              <a:ext cx="7263720" cy="5661720"/>
              <a:chOff x="965160" y="457200"/>
              <a:chExt cx="7263720" cy="5661720"/>
            </a:xfrm>
          </p:grpSpPr>
          <p:sp>
            <p:nvSpPr>
              <p:cNvPr id="266" name=""/>
              <p:cNvSpPr/>
              <p:nvPr/>
            </p:nvSpPr>
            <p:spPr>
              <a:xfrm>
                <a:off x="965160" y="457200"/>
                <a:ext cx="7263720" cy="360"/>
              </a:xfrm>
              <a:prstGeom prst="rect">
                <a:avLst/>
              </a:prstGeom>
              <a:solidFill>
                <a:srgbClr val="1f4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965160" y="457200"/>
                <a:ext cx="7263720" cy="5661720"/>
              </a:xfrm>
              <a:prstGeom prst="rect">
                <a:avLst/>
              </a:prstGeom>
              <a:solidFill>
                <a:srgbClr val="1f4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30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68" name="sourcecontrol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6613560" cy="5373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1E57-4F0A-439F-9B8E-805C5107DE5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"/>
          <p:cNvGrpSpPr/>
          <p:nvPr/>
        </p:nvGrpSpPr>
        <p:grpSpPr>
          <a:xfrm>
            <a:off x="1193760" y="701640"/>
            <a:ext cx="6410160" cy="5349600"/>
            <a:chOff x="1193760" y="701640"/>
            <a:chExt cx="6410160" cy="5349600"/>
          </a:xfrm>
        </p:grpSpPr>
        <p:sp>
          <p:nvSpPr>
            <p:cNvPr id="270" name=""/>
            <p:cNvSpPr/>
            <p:nvPr/>
          </p:nvSpPr>
          <p:spPr>
            <a:xfrm>
              <a:off x="1193760" y="701640"/>
              <a:ext cx="6410160" cy="5349600"/>
            </a:xfrm>
            <a:prstGeom prst="rect">
              <a:avLst/>
            </a:prstGeom>
            <a:solidFill>
              <a:srgbClr val="1f4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1193760" y="701640"/>
              <a:ext cx="6409800" cy="5349240"/>
              <a:chOff x="1193760" y="701640"/>
              <a:chExt cx="6409800" cy="5349240"/>
            </a:xfrm>
          </p:grpSpPr>
          <p:sp>
            <p:nvSpPr>
              <p:cNvPr id="272" name=""/>
              <p:cNvSpPr/>
              <p:nvPr/>
            </p:nvSpPr>
            <p:spPr>
              <a:xfrm>
                <a:off x="1193760" y="701640"/>
                <a:ext cx="6409800" cy="360"/>
              </a:xfrm>
              <a:prstGeom prst="rect">
                <a:avLst/>
              </a:prstGeom>
              <a:solidFill>
                <a:srgbClr val="1f4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193760" y="701640"/>
                <a:ext cx="6409800" cy="5349240"/>
              </a:xfrm>
              <a:prstGeom prst="rect">
                <a:avLst/>
              </a:prstGeom>
              <a:solidFill>
                <a:srgbClr val="1f4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30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74" name="userscustomers" descr=""/>
          <p:cNvPicPr/>
          <p:nvPr/>
        </p:nvPicPr>
        <p:blipFill>
          <a:blip r:embed="rId1"/>
          <a:stretch/>
        </p:blipFill>
        <p:spPr>
          <a:xfrm>
            <a:off x="1371600" y="762120"/>
            <a:ext cx="6248520" cy="5076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DA43-2C18-45BC-B2A6-19D80377706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"/>
          <p:cNvGrpSpPr/>
          <p:nvPr/>
        </p:nvGrpSpPr>
        <p:grpSpPr>
          <a:xfrm>
            <a:off x="1251000" y="620640"/>
            <a:ext cx="6486120" cy="5425920"/>
            <a:chOff x="1251000" y="620640"/>
            <a:chExt cx="6486120" cy="5425920"/>
          </a:xfrm>
        </p:grpSpPr>
        <p:sp>
          <p:nvSpPr>
            <p:cNvPr id="276" name=""/>
            <p:cNvSpPr/>
            <p:nvPr/>
          </p:nvSpPr>
          <p:spPr>
            <a:xfrm>
              <a:off x="1251000" y="620640"/>
              <a:ext cx="6486120" cy="5425920"/>
            </a:xfrm>
            <a:prstGeom prst="rect">
              <a:avLst/>
            </a:prstGeom>
            <a:solidFill>
              <a:srgbClr val="1f4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1251000" y="620640"/>
              <a:ext cx="6485760" cy="5425560"/>
              <a:chOff x="1251000" y="620640"/>
              <a:chExt cx="6485760" cy="5425560"/>
            </a:xfrm>
          </p:grpSpPr>
          <p:sp>
            <p:nvSpPr>
              <p:cNvPr id="278" name=""/>
              <p:cNvSpPr/>
              <p:nvPr/>
            </p:nvSpPr>
            <p:spPr>
              <a:xfrm>
                <a:off x="1251000" y="620640"/>
                <a:ext cx="6485760" cy="360"/>
              </a:xfrm>
              <a:prstGeom prst="rect">
                <a:avLst/>
              </a:prstGeom>
              <a:solidFill>
                <a:srgbClr val="1f4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251000" y="620640"/>
                <a:ext cx="6485760" cy="5425560"/>
              </a:xfrm>
              <a:prstGeom prst="rect">
                <a:avLst/>
              </a:prstGeom>
              <a:solidFill>
                <a:srgbClr val="1f4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30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80" name="groupsecurity" descr=""/>
          <p:cNvPicPr/>
          <p:nvPr/>
        </p:nvPicPr>
        <p:blipFill>
          <a:blip r:embed="rId1"/>
          <a:stretch/>
        </p:blipFill>
        <p:spPr>
          <a:xfrm>
            <a:off x="1371600" y="685800"/>
            <a:ext cx="6337440" cy="514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590C-A9D2-4E00-8BDC-056F216C3A1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965160" y="612720"/>
            <a:ext cx="7035480" cy="5597280"/>
            <a:chOff x="965160" y="612720"/>
            <a:chExt cx="7035480" cy="5597280"/>
          </a:xfrm>
        </p:grpSpPr>
        <p:sp>
          <p:nvSpPr>
            <p:cNvPr id="282" name=""/>
            <p:cNvSpPr/>
            <p:nvPr/>
          </p:nvSpPr>
          <p:spPr>
            <a:xfrm>
              <a:off x="965160" y="612720"/>
              <a:ext cx="7035480" cy="5597280"/>
            </a:xfrm>
            <a:prstGeom prst="rect">
              <a:avLst/>
            </a:prstGeom>
            <a:solidFill>
              <a:srgbClr val="1f4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965160" y="612720"/>
              <a:ext cx="7035120" cy="5596920"/>
              <a:chOff x="965160" y="612720"/>
              <a:chExt cx="7035120" cy="5596920"/>
            </a:xfrm>
          </p:grpSpPr>
          <p:sp>
            <p:nvSpPr>
              <p:cNvPr id="284" name=""/>
              <p:cNvSpPr/>
              <p:nvPr/>
            </p:nvSpPr>
            <p:spPr>
              <a:xfrm>
                <a:off x="965160" y="612720"/>
                <a:ext cx="7035120" cy="360"/>
              </a:xfrm>
              <a:prstGeom prst="rect">
                <a:avLst/>
              </a:prstGeom>
              <a:solidFill>
                <a:srgbClr val="1f4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965160" y="612720"/>
                <a:ext cx="7035120" cy="5596920"/>
              </a:xfrm>
              <a:prstGeom prst="rect">
                <a:avLst/>
              </a:prstGeom>
              <a:solidFill>
                <a:srgbClr val="1f4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30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86" name="reports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6537240" cy="5311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0214-F238-4083-B721-E5824257888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"/>
          <p:cNvGrpSpPr/>
          <p:nvPr/>
        </p:nvGrpSpPr>
        <p:grpSpPr>
          <a:xfrm>
            <a:off x="990720" y="533520"/>
            <a:ext cx="7314840" cy="5822640"/>
            <a:chOff x="990720" y="533520"/>
            <a:chExt cx="7314840" cy="5822640"/>
          </a:xfrm>
        </p:grpSpPr>
        <p:sp>
          <p:nvSpPr>
            <p:cNvPr id="288" name=""/>
            <p:cNvSpPr/>
            <p:nvPr/>
          </p:nvSpPr>
          <p:spPr>
            <a:xfrm>
              <a:off x="990720" y="533520"/>
              <a:ext cx="7314840" cy="5822640"/>
            </a:xfrm>
            <a:prstGeom prst="rect">
              <a:avLst/>
            </a:prstGeom>
            <a:solidFill>
              <a:srgbClr val="1f4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" name=""/>
            <p:cNvGrpSpPr/>
            <p:nvPr/>
          </p:nvGrpSpPr>
          <p:grpSpPr>
            <a:xfrm>
              <a:off x="990720" y="533520"/>
              <a:ext cx="7314480" cy="5822280"/>
              <a:chOff x="990720" y="533520"/>
              <a:chExt cx="7314480" cy="5822280"/>
            </a:xfrm>
          </p:grpSpPr>
          <p:sp>
            <p:nvSpPr>
              <p:cNvPr id="290" name=""/>
              <p:cNvSpPr/>
              <p:nvPr/>
            </p:nvSpPr>
            <p:spPr>
              <a:xfrm>
                <a:off x="990720" y="533520"/>
                <a:ext cx="7314480" cy="360"/>
              </a:xfrm>
              <a:prstGeom prst="rect">
                <a:avLst/>
              </a:prstGeom>
              <a:solidFill>
                <a:srgbClr val="1f4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990720" y="533520"/>
                <a:ext cx="7314480" cy="5822280"/>
              </a:xfrm>
              <a:prstGeom prst="rect">
                <a:avLst/>
              </a:prstGeom>
              <a:solidFill>
                <a:srgbClr val="1f4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30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92" name="solobug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510240" cy="5289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93BB-70C1-4767-908E-173DD71C0A4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ent Server System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cer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a0000"/>
                </a:solidFill>
                <a:latin typeface="Verdana"/>
              </a:rPr>
              <a:t>Organizational Readiness, Kiviat Char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nagement, client installation &amp; server suppor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a0000"/>
                </a:solidFill>
                <a:latin typeface="Verdana"/>
              </a:rPr>
              <a:t>Client Install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ropriate hardware &amp; software in pla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a0000"/>
                </a:solidFill>
                <a:latin typeface="Verdan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ardware, software &amp; data from employees, outsiders and acts  of natu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a0000"/>
                </a:solidFill>
                <a:latin typeface="Verdana"/>
              </a:rPr>
              <a:t>Client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erything is not lost, incorrectly processed or processed differently from organiz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a0000"/>
                </a:solidFill>
                <a:latin typeface="Verdana"/>
              </a:rPr>
              <a:t>Client/Server Standar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ame set of rules for all client workst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418B-95C3-401D-88E0-A34200D2910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1514520" y="900000"/>
            <a:ext cx="6114960" cy="5059440"/>
            <a:chOff x="1514520" y="900000"/>
            <a:chExt cx="6114960" cy="5059440"/>
          </a:xfrm>
        </p:grpSpPr>
        <p:sp>
          <p:nvSpPr>
            <p:cNvPr id="294" name=""/>
            <p:cNvSpPr/>
            <p:nvPr/>
          </p:nvSpPr>
          <p:spPr>
            <a:xfrm>
              <a:off x="1514520" y="900000"/>
              <a:ext cx="6114960" cy="5059440"/>
            </a:xfrm>
            <a:prstGeom prst="rect">
              <a:avLst/>
            </a:prstGeom>
            <a:solidFill>
              <a:srgbClr val="1f4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1514520" y="900000"/>
              <a:ext cx="6114960" cy="5059440"/>
              <a:chOff x="1514520" y="900000"/>
              <a:chExt cx="6114960" cy="5059440"/>
            </a:xfrm>
          </p:grpSpPr>
          <p:sp>
            <p:nvSpPr>
              <p:cNvPr id="296" name=""/>
              <p:cNvSpPr/>
              <p:nvPr/>
            </p:nvSpPr>
            <p:spPr>
              <a:xfrm>
                <a:off x="1514520" y="900000"/>
                <a:ext cx="6114960" cy="360"/>
              </a:xfrm>
              <a:prstGeom prst="rect">
                <a:avLst/>
              </a:prstGeom>
              <a:solidFill>
                <a:srgbClr val="1f4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14520" y="900000"/>
                <a:ext cx="6114960" cy="5059440"/>
              </a:xfrm>
              <a:prstGeom prst="rect">
                <a:avLst/>
              </a:prstGeom>
              <a:solidFill>
                <a:srgbClr val="1f4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30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98" name="solosubmit" descr=""/>
          <p:cNvPicPr/>
          <p:nvPr/>
        </p:nvPicPr>
        <p:blipFill>
          <a:blip r:embed="rId1"/>
          <a:stretch/>
        </p:blipFill>
        <p:spPr>
          <a:xfrm>
            <a:off x="1692360" y="946080"/>
            <a:ext cx="5908680" cy="4800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F0B4-129A-4BFD-8088-80FE138BA0C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"/>
          <p:cNvGrpSpPr/>
          <p:nvPr/>
        </p:nvGrpSpPr>
        <p:grpSpPr>
          <a:xfrm>
            <a:off x="1514520" y="900000"/>
            <a:ext cx="6114960" cy="5059440"/>
            <a:chOff x="1514520" y="900000"/>
            <a:chExt cx="6114960" cy="5059440"/>
          </a:xfrm>
        </p:grpSpPr>
        <p:sp>
          <p:nvSpPr>
            <p:cNvPr id="300" name=""/>
            <p:cNvSpPr/>
            <p:nvPr/>
          </p:nvSpPr>
          <p:spPr>
            <a:xfrm>
              <a:off x="1514520" y="900000"/>
              <a:ext cx="6114960" cy="5059440"/>
            </a:xfrm>
            <a:prstGeom prst="rect">
              <a:avLst/>
            </a:prstGeom>
            <a:solidFill>
              <a:srgbClr val="1f4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1514520" y="900000"/>
              <a:ext cx="6114960" cy="5059440"/>
              <a:chOff x="1514520" y="900000"/>
              <a:chExt cx="6114960" cy="5059440"/>
            </a:xfrm>
          </p:grpSpPr>
          <p:sp>
            <p:nvSpPr>
              <p:cNvPr id="302" name=""/>
              <p:cNvSpPr/>
              <p:nvPr/>
            </p:nvSpPr>
            <p:spPr>
              <a:xfrm>
                <a:off x="1514520" y="900000"/>
                <a:ext cx="6114960" cy="360"/>
              </a:xfrm>
              <a:prstGeom prst="rect">
                <a:avLst/>
              </a:prstGeom>
              <a:solidFill>
                <a:srgbClr val="1f4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514520" y="900000"/>
                <a:ext cx="6114960" cy="5059440"/>
              </a:xfrm>
              <a:prstGeom prst="rect">
                <a:avLst/>
              </a:prstGeom>
              <a:solidFill>
                <a:srgbClr val="1f4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30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04" name="workbk" descr=""/>
          <p:cNvPicPr/>
          <p:nvPr/>
        </p:nvPicPr>
        <p:blipFill>
          <a:blip r:embed="rId1"/>
          <a:stretch/>
        </p:blipFill>
        <p:spPr>
          <a:xfrm>
            <a:off x="1692360" y="946080"/>
            <a:ext cx="5908680" cy="4800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16E6-4AB7-4F22-ABBD-096EBB4156B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14520" y="900000"/>
            <a:ext cx="6114960" cy="5059440"/>
            <a:chOff x="1514520" y="900000"/>
            <a:chExt cx="6114960" cy="5059440"/>
          </a:xfrm>
        </p:grpSpPr>
        <p:sp>
          <p:nvSpPr>
            <p:cNvPr id="306" name=""/>
            <p:cNvSpPr/>
            <p:nvPr/>
          </p:nvSpPr>
          <p:spPr>
            <a:xfrm>
              <a:off x="1514520" y="900000"/>
              <a:ext cx="6114960" cy="5059440"/>
            </a:xfrm>
            <a:prstGeom prst="rect">
              <a:avLst/>
            </a:prstGeom>
            <a:solidFill>
              <a:srgbClr val="1f4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7" name=""/>
            <p:cNvGrpSpPr/>
            <p:nvPr/>
          </p:nvGrpSpPr>
          <p:grpSpPr>
            <a:xfrm>
              <a:off x="1514520" y="900000"/>
              <a:ext cx="6114960" cy="5059440"/>
              <a:chOff x="1514520" y="900000"/>
              <a:chExt cx="6114960" cy="5059440"/>
            </a:xfrm>
          </p:grpSpPr>
          <p:sp>
            <p:nvSpPr>
              <p:cNvPr id="308" name=""/>
              <p:cNvSpPr/>
              <p:nvPr/>
            </p:nvSpPr>
            <p:spPr>
              <a:xfrm>
                <a:off x="1514520" y="900000"/>
                <a:ext cx="6114960" cy="360"/>
              </a:xfrm>
              <a:prstGeom prst="rect">
                <a:avLst/>
              </a:prstGeom>
              <a:solidFill>
                <a:srgbClr val="1f4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514520" y="900000"/>
                <a:ext cx="6114960" cy="5059440"/>
              </a:xfrm>
              <a:prstGeom prst="rect">
                <a:avLst/>
              </a:prstGeom>
              <a:solidFill>
                <a:srgbClr val="1f4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30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10" name="vcstudio" descr=""/>
          <p:cNvPicPr/>
          <p:nvPr/>
        </p:nvPicPr>
        <p:blipFill>
          <a:blip r:embed="rId1"/>
          <a:stretch/>
        </p:blipFill>
        <p:spPr>
          <a:xfrm>
            <a:off x="1692360" y="946080"/>
            <a:ext cx="5908680" cy="4800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33BB-EE67-4FF1-9882-C4948584CD9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BD00028_" descr=""/>
          <p:cNvPicPr/>
          <p:nvPr/>
        </p:nvPicPr>
        <p:blipFill>
          <a:blip r:embed="rId1"/>
          <a:stretch/>
        </p:blipFill>
        <p:spPr>
          <a:xfrm>
            <a:off x="3048120" y="2133720"/>
            <a:ext cx="3097080" cy="3033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13D8-87C4-4FD6-89E3-D0D281EDE52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ent Server System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60199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ree ste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ess Read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ess Key compon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Sy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CDFF-CFFA-4F01-BA26-45433AD870C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Web-based system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7468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s using internet, intranet and extranets; web-based architecture is an extension of c/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cerns for web-based tes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owser Compatibi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al Correctn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g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abi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erification of co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9077-CE6D-4E9C-B66E-AE49DDFF07B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Web-based system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90360" y="2514240"/>
            <a:ext cx="74689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 ste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lect Web-based risks to include in test Pl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lect Web-based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lect Web-based test To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web-based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D490-A003-4C7B-A360-51B86073613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OT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asks / Items Miss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fails to perfor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tra Feat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es not meet business nee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es not meet operational nee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es not meet people nee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95C3-E346-4532-BE82-61C5C85F60D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914400" y="1828800"/>
            <a:ext cx="7316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as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Business F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leten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SF Te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perational F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rdware/ Software Compatibi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gration into Business system work flo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monstrating software in oper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People F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ptance Test Software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e Functional Test condi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e Structural Test condi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OT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0DB2-EB07-47FE-8C60-DA3920E2E5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71200" y="920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Multi platform environment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2133360"/>
            <a:ext cx="74246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cer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latforms in the test lab will not be representative of the platform in the real worl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oftware will be expected to work on platforms not included in the la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upporting software on various platforms is not comprehensiv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900F-13FC-4906-81DE-B58DB345D6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5T11:21:58Z</dcterms:created>
  <dc:creator>Tahir Hameed</dc:creator>
  <dc:description/>
  <dc:language>en-US</dc:language>
  <cp:lastModifiedBy>Tahir Hameed</cp:lastModifiedBy>
  <dcterms:modified xsi:type="dcterms:W3CDTF">2002-09-19T06:18:52Z</dcterms:modified>
  <cp:revision>12</cp:revision>
  <dc:subject/>
  <dc:title>Software Process &amp; Quality Management</dc:title>
</cp:coreProperties>
</file>