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217E-2B04-4983-9DF0-BF42F9A8B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actors, 1 is not “human” but anothe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use cases, one is specialized into 2 us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7179-86B8-45E0-9164-EE8CF65F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AFF-EA02-4DB1-8249-3CFAE194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70E-E852-41F0-BDEF-6776189F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2B1-F4AF-4B87-AB24-58DAF6CD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E8D-135A-46E3-BB10-BB5B9346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682-E6DE-45E4-9E87-1FE8DF4F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B08-0B0D-4B12-A36E-9587E6EC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508-4597-44C6-93BE-EB85730C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C88-D6B8-46B6-882F-A398BA23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EED-8BC6-4D85-8689-00FAF85F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B61-CA6F-4CFA-8AD1-87CCAD7F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527-E0D5-44D0-8F58-F69236C9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991E-C269-4C44-94EB-A51B92A56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ahirh@enabtech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206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O Software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7240" y="2860560"/>
            <a:ext cx="48006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hir Ham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ing Technologies, Islama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ahirh@enabtech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763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sting a use case/scenario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enario is a path through a sequence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fferent scenarios associated with a sequence diagra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e wr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or missing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function/feature in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parameter valu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boundary valu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 message - wrong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message - righ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objec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sent to destroyed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exception th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rect exception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ad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3200" y="19810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z #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O Design arti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ario-based tes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procedure in 4 pa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tablish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tract Information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velop Use Case Test Coverage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fine &amp; Execute test c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hensive OO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z #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3200" y="22096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Quality As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Qualit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ication &amp;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process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fall, spiral, V-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the difference between error, defect and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OO softwa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UML spec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transition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Effor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require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omprehensiv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l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72428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based test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ntrates on (functional)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a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ing sequence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use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fully expanded extension (&lt;&lt;extend&gt;&gt;) comb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fully expanded uses (&lt;&lt;uses&gt;&gt;) comb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s normal as well as exceptional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ashBox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77120" cy="4568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s for ATM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cenarios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853452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77640" y="1065240"/>
            <a:ext cx="58453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st Procedure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testing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k Use Cases (&amp; variants) according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e #test cases to each use case (and possibly vari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test cases for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06:16:10Z</dcterms:created>
  <dc:creator>void</dc:creator>
  <dc:description/>
  <dc:language>en-US</dc:language>
  <cp:lastModifiedBy>void</cp:lastModifiedBy>
  <dcterms:modified xsi:type="dcterms:W3CDTF">2002-09-28T06:16:22Z</dcterms:modified>
  <cp:revision>1</cp:revision>
  <dc:subject/>
  <dc:title>OO Software Testing</dc:title>
</cp:coreProperties>
</file>