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5B2-450F-4AC6-AE7F-8CBCF420C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 for establish session us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9D6-F6F5-4C4C-8DA3-A1C07C4D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026-0476-491C-A2F5-8199904B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7BD-F39E-490C-AC7C-E1C4731A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6BA-42CA-4D46-A56E-418879B5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9EC-7EA4-428E-B1B4-7E40B97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D00-A2EA-418E-9156-7990BE5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F1B-C19B-4D57-8EB1-41AFBCE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955-7B2B-479B-81E5-240EB1E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3B9-2A64-4722-8499-0072D34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00B-EFD1-46A4-B253-F6BD250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F75-6018-4B97-A872-69AE635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0E4-88BF-46A3-A109-E6349E7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ED0-6D11-4AEB-B337-3E2B86970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a use case/scenario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320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ths in sequence diagram should be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messages from the actor/UI to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ossible: check “internal”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control flow information from a sequence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branches and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6840" y="700200"/>
            <a:ext cx="739908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Establish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eqDiag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3200" y="2209680"/>
            <a:ext cx="7576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checks are per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ard an ATM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ard stol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customer a valid bank acc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customer a valid P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hances to enter the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charge if from different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rocedu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the sequence diagram into a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low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ssage or group of consecutive messages becomes a segment (box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al action (branch, iteration) ends a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acketed (loop) condition becomes a decision (hexag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lowgraph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5119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6:17:03Z</dcterms:created>
  <dc:creator>void</dc:creator>
  <dc:description/>
  <dc:language>en-US</dc:language>
  <cp:lastModifiedBy>void</cp:lastModifiedBy>
  <dcterms:modified xsi:type="dcterms:W3CDTF">2002-09-28T06:17:33Z</dcterms:modified>
  <cp:revision>1</cp:revision>
  <dc:subject/>
  <dc:title>Testing a use case/scenario (2)</dc:title>
</cp:coreProperties>
</file>