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A75-C46D-4D96-AC09-057643AE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d Exception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orphic message / server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a client sends a message to a polymorphic server, which in turn sends a message to another polymorphic server. The end of the message call path is reached after the activation of 5 polymorphic servers. Further, suppose that each server has six subclasses. We have 6 power 5 = 7776 message paths. Clearly a bug could lurk in those paths, but it is practically impossible to exercise all these paths. A round-trip coverage would probably hit at least one of each polymorphic binding, but can easily miss bugs related to other bind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902-63D7-4981-AEA4-0B4FC9F8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322-4F1A-4B8D-B0DF-2BFAB555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F4C-9429-4782-BA41-F192A2C4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65-63DA-42A4-A443-5769D2AC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9E8-B2E0-4D4B-8969-211D8A5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D1A-1679-4EFB-91FB-8644D626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561-B9A8-458B-98CE-5A6294D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84A-1F59-456D-A4B4-774A346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E5F-0522-4B52-AC61-F42AB65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CB2-C9A4-4B59-B6B3-2FB5D21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335-74EE-47BF-817A-3C85C6E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584-61A0-456C-B55C-080E072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F13-0F54-4D15-93E9-D894C454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320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-box testing can be applied to flow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flow graph may rev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biguiti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issions in the sequenc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guities either reveal faults or a behavior to be interpreted by the 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3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“Establish ses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D: 0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ondition: ATM is running and no sessions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test “begin sess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: Create a sess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session object exists and is in its initi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test “no ATM card was en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: Card entered is no ATM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: Rea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NoATMCard exception is thrown and session object was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Test case definition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test “get PI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: Card entered is ATM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a): displayEnter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“Enter PIN” is dis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b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a stolen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c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StolenCardException is th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Test case definition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d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invalid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e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g): get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4 digit entry of valid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xecute (h): check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result: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88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ssignment: test driver should run on CLIENT side to make sure that the client/server communication is properly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est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xecute the use cases without user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e use cases manually with 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ystem test dri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ls all use case tes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est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river code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the system state described in the test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he method to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f the expected result is pro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test result to file/console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number of failed test to produce a summary result at 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river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 atm.impl.te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ATMUseCaseTe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int allErrors = 0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ount #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usecase1 () { //test use c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========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Testing Use Case 1: Establish Sessio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Step3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Establish Session: Errors found = ”, allErro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Finished testing Use Case 1: Establish Sessio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anExc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Unexpected exception “, anExc, “in Use Case 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Establish Session: Errors found = ”, allErro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Testing Use Case 1: Establish Session”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49280" y="699840"/>
            <a:ext cx="609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drive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testStep1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{//test step 1 of use 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(“Testing Step 1: Begin Session 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reate precondition/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execut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 aSession = new Sess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check postcondition and print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aSession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faile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succeeded”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anExc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System.out.println(“Unexpected exception “, anExc, “in Step 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Errors = allErrors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and object state need to satisfy the path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redicates on each path, work from first predicate and identify required input and state variabl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same for the next path conditions until the 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ths may not be fea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Path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thTestCases" descr=""/>
          <p:cNvPicPr/>
          <p:nvPr/>
        </p:nvPicPr>
        <p:blipFill>
          <a:blip r:embed="rId1"/>
          <a:stretch/>
        </p:blipFill>
        <p:spPr>
          <a:xfrm>
            <a:off x="609480" y="1655640"/>
            <a:ext cx="8001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 rarely include two significant detai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Polymorph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ceiver has to be of a specific type but not an instance of one specific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eded: check instances of differe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Exception-hand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jumping out” of the sequenc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rocedu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088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he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se Case / Class coverag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lasses are not covered by test ca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methods of a class are not cov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dditional tes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971800"/>
          <a:ext cx="8686800" cy="104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6868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72964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case/class coverage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case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635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 cove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test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rocedu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est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al description of test proced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flow graph a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expected results after each step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ndition that allow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if the step succee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876920"/>
            <a:ext cx="1523880" cy="8380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test descri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use case/sequence diagram in the design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case that shows that the scenarios and its variations can be executed b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as precondition the objects and their state that get messages from the 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teps: list the sequence of messages that are send from the UI to other objec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ases for all exceptions of the u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6:18:17Z</dcterms:created>
  <dc:creator>void</dc:creator>
  <dc:description/>
  <dc:language>en-US</dc:language>
  <cp:lastModifiedBy>void</cp:lastModifiedBy>
  <dcterms:modified xsi:type="dcterms:W3CDTF">2002-09-28T06:20:08Z</dcterms:modified>
  <cp:revision>2</cp:revision>
  <dc:subject/>
  <dc:title>Remarks</dc:title>
</cp:coreProperties>
</file>