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A82-3EA3-4DF1-B716-0836F206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B96-A896-4FFA-A3DA-2314974F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5CC-F5A2-406A-8B7D-DEDDB490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8EB-9468-406C-85DF-134DF329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350-FD55-46A2-B56D-267E0508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6ED-A5AD-4214-B1A3-3794BADE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562-0B2C-4A65-9325-9CFFCCF8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BC6-644D-4565-A482-6581F9C1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74F-8CF6-488F-9528-77F2629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98E-33BD-4B7F-8621-86BED1AA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ED2-F7DA-4939-B9E7-A2686287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433-5FB4-43E6-8432-66BE142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8CCE-CF85-446C-8619-114783D7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 test descri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use case/sequence diagram in the design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case that shows that the scenarios and its variations can be executed by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as precondition the objects and their state that get messages from the 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teps: list the sequence of messages that are send from the UI to other obje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ases for all exceptions of the u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83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Test case defini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“Establish ses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D: 0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ondition: ATM is running and no session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Test case defini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test “begin sess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: Create a sess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session object exists and is in its initi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test “no ATM card was enter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: Card entered is no ATM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: Rea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NoATMCard exception is thrown and session object was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Test case definition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test “get PI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: Card entered is ATM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a): displayEnter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“Enter PIN” is dis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b): get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4 digit entry of a stolen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c): check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StolenCardException is th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Test case definition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d): get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4 digit entry of invalid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e): check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g): get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4 digit entry of valid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h): check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88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st d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ssignment: test driver should run on CLIENT side to make sure that the client/server communication is properly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s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est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execute the use cases without user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e use cases manually with 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ystem test dri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ls all use case tes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est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driver code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he system state described in the test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he method to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expected result is pro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test result to file/console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the number of failed test to produce a summary result at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river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e atm.impl.te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lass ATMUseCaseTe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int allErrors = 0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count #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void usecase1 () { //test use c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========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Testing Use Case 1: Establish Sessio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Step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Step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Step3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(“Establish Session: Errors found = ”, allErro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(“Finished testing Use Case 1: Establish Sessio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ch (Exception anExc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System.out.println(“Unexpected exception “, anExc, “in Use Case 1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rrors = allErrors 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(“Establish Session: Errors found = ”, allErro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Testing Use Case 1: Establish Session”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49280" y="699840"/>
            <a:ext cx="6095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river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void testStep1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{//test step 1 of use c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(“Testing Step 1: Begin Session 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create precondition/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execute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aSession = new Sess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check postcondition and print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aSession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System.out.println(“failed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rrors = allErrors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System.out.println(“succeeded”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ch (Exception anExc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System.out.println(“Unexpected exception “, anExc, “in Step 1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rrors = allErrors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6:18:53Z</dcterms:created>
  <dc:creator>void</dc:creator>
  <dc:description/>
  <dc:language>en-US</dc:language>
  <cp:lastModifiedBy>void</cp:lastModifiedBy>
  <dcterms:modified xsi:type="dcterms:W3CDTF">2002-09-28T06:19:12Z</dcterms:modified>
  <cp:revision>1</cp:revision>
  <dc:subject/>
  <dc:title>Use case test descriptions</dc:title>
</cp:coreProperties>
</file>